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E53-5695-46EF-9800-DA825FB3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A04-CCE7-40DF-9F76-F88CA0D3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1FF-661C-463C-A7BC-007A80A1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7D3-CBBD-4C3D-8615-0AB2246E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3A7-6EEE-4BC2-8CDE-43415F82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090-EF09-445F-B86F-AF631C32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D3D-3E3C-4C9A-A599-327C0A98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03F-3515-4989-B14C-075380DE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4FD-7E36-4BB9-A5CA-63D2F5D5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BD7-01E6-4B23-8ACF-8148EFDC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3ED-3B62-4A50-ADB0-1BCAB30E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6C3-C206-4167-8E87-83B26FC4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CEB1-CD25-4E3F-BED1-97A38B96B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1 Hviezdou, čo v tme svie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viezdou, čo v tme svie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c vie rozjasn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skrou, ktorá nie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 mne túžbu ž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lebom, čo hlad tíš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si mi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cieľ nad všetko vyšš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môj a môj Pán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 bol prázd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siaľ život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užoval ho már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a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l som iba plev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trom zmietan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dnes sa teším, že s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ím dieťaťom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zdrojom blah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o v tebe m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eď krok môj váh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smerníš ho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utrpení, v str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mi nádej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nad pozemské sl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ou jedinou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tebou teda pôjd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m sa tebou v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cieľu iste dôjd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abyrintu ci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, kde žiadna ties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 neskal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tam ťa moja pies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čne pozdraví.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8:35:44Z</dcterms:modified>
  <cp:revision>20</cp:revision>
  <dc:subject/>
  <dc:title>Je veľký náš Pán, on slávy je Kráľ Nech do všetkých strán  spev vrúcnych znie chvál.</dc:title>
</cp:coreProperties>
</file>